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1F64-6735-428E-884E-884EB4DEDD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Responsabilità del servizio di Prevenzione e Protezione è affidata all’esterno a TECNOCAMERE Società di Consulenza Tecnica del Sistema Came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D74-107D-4E87-9E82-076E8E67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8C0-CD84-454E-A5A0-79DFE24E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05A-05BF-49B0-B6DD-0F168E89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CD8-8553-4D4F-A186-A1A100A6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D525-DE5C-4EB1-AE6E-999D6476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5198-AF54-4616-9DFB-C9A7E271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AB4C-568B-47B4-925E-173644FA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905A-6DB9-49BF-8F93-B468F04F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0A76-2E7B-48E3-A009-3C9CA57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FE32-BA77-4592-A721-08BCE065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AA23-6FDB-4050-8352-DD042D18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80A-0D0D-4F03-B5B2-E1D433D4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0E0E-27CA-47EF-A919-57C3BF99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C726-6DA8-4D18-ADB2-5059877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0C69-85A0-409C-B512-CCF33046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A4C3-5134-41FA-A324-5BB8E521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D1F6-8CF8-46D7-A2C5-0F9A4A57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F1D-9C7B-467E-B238-37DDD9DB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208-381F-4276-9AD7-9C08581E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BC2-8BE3-49F2-812E-5D742C87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8F3-B0DE-44CA-AB5F-3BBB4A0B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FCE-22FD-4E81-BDA6-2519E93C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640-2FE8-4EFC-8087-ABE19089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15F-A689-42D5-BAE1-54F4076C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F6E4-1D89-4492-ADF9-68659B1D42CB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6E75-C905-47D0-9469-0C937D92FEE4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74311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A GESTIONE DELLA SICUREZZA SUI LUOGHI DI LAVORO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SPETTI TECNICI E TESTIMONIANZ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1640" y="3500280"/>
            <a:ext cx="684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Un’esperienza in tema di organizzazione della sicurezza in un Ente Pubblic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59960" y="5734080"/>
            <a:ext cx="799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Tahoma"/>
              </a:rPr>
              <a:t>Avv. Mario Esti – Dirigente C.C.I.A.A. di Napoli – Area Gestione del Personale e della Sicurezza del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89856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 SP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Servizio di Prevenzione e Protezione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atore di Lavoro: Avv. Mario Est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SPP Esterno: Geom. Piero Lova (TECNOCAMERE SCpA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Addetto Esterno: Ing. Giuseppe Tammaro (TECNOCAMERE SCpA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Medico Comp.: Dott. Paolo Chiarolanz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2 RLS:  Giovanna Cuppone, Carmela Albig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di: 3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Attività: Uffic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Lavoratori: circa 14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Addetti Antincendio: 5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Addetti Primo Soccorso: 5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549360"/>
            <a:ext cx="77004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E59-102B-42FF-9A95-F4F934C86F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Interventi nella SEDE di Via S.Aspreno (P.zza G.Bovio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strisce antiscivolo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corrimano ad altezza 1 metro lungo la balaustra interna del secondo piano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impianto di allertamento in caso di incendio/evacuazione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illuminazione di emergenza, cartellonistica di sicurezza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740720" y="1268280"/>
            <a:ext cx="911160" cy="9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F82-D3E6-4879-81EF-CCE827630D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he e misurazio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ilevazioni fonometriche nel salone sportelli pubblico del Registro delle Imprese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Verifiche impianti di terra ai sensi del DPR 462/01 (ultima, in CORSO)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ilevazione del gas RADON ai sensi del DLgs 241/00 in “Attuazione della direttiva 96/29/EURATOM in materia di protezione sanitaria della popolazione e dei lavoratori contro i rischi derivanti dalle radiazioni ionizzanti”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549360"/>
            <a:ext cx="838440" cy="83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E64-2786-427D-AA9B-35B41E5DA4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tutti i lavorato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60360" y="2903400"/>
            <a:ext cx="2032200" cy="2901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2036520" cy="2882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300720" y="2933640"/>
            <a:ext cx="1932120" cy="28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7740720" y="549360"/>
            <a:ext cx="911160" cy="90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ECB-EC2D-434E-8AAF-D17CAB705C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rso di formazione per addetti antincendio Rischio Medio – ai sensi del DM 10 marzo 2008 (settembre 2007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rso di formazione per addetti Primo Soccorso – ai sensi del DM 388/2003 (ottobre 2007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85080" y="549360"/>
            <a:ext cx="766800" cy="76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8D8-2BC9-4A6F-B1E1-76E678E89F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a 200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Corso di formazione per tutti i lavorato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Corso di formazione per dirigenti e capiserviz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Prove di evacuazione edific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65556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D25-F0D8-4AF5-81B7-68573A8D0F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6920" y="1555560"/>
            <a:ext cx="66978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Grazie per l’attenzio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Avv. Mario Est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Dirigente Area Personale e Sicurezza sul Lavor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mario.esti@nap.camcom.it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65556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5C6-433D-4BA8-9F53-AE11BE40572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39:03Z</dcterms:created>
  <dc:creator>Giuseppe Tammaro</dc:creator>
  <dc:description/>
  <dc:language>en-US</dc:language>
  <cp:lastModifiedBy>Eventi</cp:lastModifiedBy>
  <dcterms:modified xsi:type="dcterms:W3CDTF">2010-01-21T06:23:46Z</dcterms:modified>
  <cp:revision>10</cp:revision>
  <dc:subject/>
  <dc:title>LA GESTIONE DELLA SICUREZZA SUI LUOGHI DI LAVORO: ASPETTI TECNICI E TESTIMONIANZE</dc:title>
</cp:coreProperties>
</file>